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43C-9611-4417-9D3D-E041878C6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st drugs are metabolized by the liver’s P450 enzymes. Scientists want to know which drugs are metabolized, and which drugs inhibit metabolism so they can determine the benefi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D54B-84D0-4722-A977-7018BF39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6019-1B62-4AC8-926A-9B69DC9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28A1-721A-488E-94BD-5764FEEF3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51A0-C2BD-4DEB-AC2B-C88D8EE6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6CB2-8B3D-4DD1-BE47-B58CF3C2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C029-2986-4ADF-A142-2A402F7A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F276-8F11-4A28-8665-8F0F8F5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DA70-3A44-446D-8D11-70816772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F52B-F804-4636-8695-1FDE57C5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FA8-3982-454B-9D8C-F9749AD8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1216-F82B-470B-940B-A6495F9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A47F0-8104-4B5A-AC45-1FC6EBF9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457-3B04-4D63-996E-ED62284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9955-EC87-48FB-9EA9-0ECDAD9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978C-A89C-48F8-9993-88E53E93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5C8D-9333-4645-8A98-E284CF95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EBB8-92A3-482A-BB17-E4DA85ED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FE23-FDF9-4C91-9EFB-69242486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B00A-4EE9-4A8A-8120-4FEEBC0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B7FB-8E1D-4B87-88C8-C60C79A0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55CD-0AAF-4230-AC11-1CF3230B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F6DE-D9B1-4E18-91E0-AA5A958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DC60-A7D1-4E7E-8A98-7A26D8CD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BF46-67C9-4FF9-B54A-D36A480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2940-0C9D-43D6-8BB6-46469F6AB9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F4AC-655C-472E-9862-638F04A0FD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lar.hw.ac.uk/site/biology/activity10.asp?outline=no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Franklin Gothic Medium"/>
              </a:rPr>
              <a:t>Creation of a P450 Array toward High-throughput Analysi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anklin Gothic Medium"/>
              </a:rPr>
              <a:t>Kumiko Sakai-Kato, Masaru Kato, Hiroshi Homma, Toshimasa Toyo’oka, and Naoko Utsunomiya-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6893" t="0" r="0" b="8329"/>
          <a:stretch/>
        </p:blipFill>
        <p:spPr>
          <a:xfrm>
            <a:off x="1600200" y="466560"/>
            <a:ext cx="6172200" cy="540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06800" y="6141960"/>
            <a:ext cx="68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graphpad.com/curvefit/introduction7c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917280" y="2511360"/>
            <a:ext cx="21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Fluores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69236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1400" y="2946240"/>
            <a:ext cx="30456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7600" y="4073400"/>
            <a:ext cx="304920" cy="3049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165560"/>
            <a:ext cx="304560" cy="3049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5760" y="144360"/>
            <a:ext cx="8226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YP450 Isoforms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lative Amounts in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5978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mada, T.; Yamazaki, H.; Mimura, M.; Inui, Y.; Guengerich, F.P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. Pharmacol. Exptl. 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7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414-42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1066680"/>
          <a:ext cx="88390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8390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ilitates the drug discovery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rgets key hepatic metabolic re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izes benefits / minimizes harmfulness of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6472" t="7500" r="9318" b="10004"/>
          <a:stretch/>
        </p:blipFill>
        <p:spPr>
          <a:xfrm>
            <a:off x="6781680" y="1523880"/>
            <a:ext cx="1981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Consid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2320" y="152352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number of chemicals to be tes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ropriate method of det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urate prediction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 viv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sponse to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752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bolism via P450 Enzy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450 enzymes are thermally  uns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bolism occurs in combination with other enzymes (e.g., reduct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666880"/>
          <a:ext cx="693432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-979560" y="6467400"/>
            <a:ext cx="110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vlin, D. T.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extbook of Biochemistry: with Clinical Correlations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th Ed.; Wiley-Liss: 199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hib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scholar.hw.ac.uk/site/biology/activity10.asp?outline=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80880" y="3581280"/>
          <a:ext cx="838224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1280"/>
                    <a:ext cx="838224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38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perimental Setu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838080"/>
          <a:ext cx="243864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838080"/>
                    <a:ext cx="2438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7543800" y="12952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391160" y="182844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467120" y="1600200"/>
            <a:ext cx="68580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1880" y="1447920"/>
            <a:ext cx="762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77320" y="1066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5238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952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219320"/>
            <a:ext cx="44193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mmobilization of microsome using sodium silicat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90920" y="236232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Ketoconazole:   2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M   10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M  50</a:t>
            </a:r>
            <a:r>
              <a:rPr b="0" lang="en-US" sz="1800" spc="-1" strike="noStrike">
                <a:solidFill>
                  <a:srgbClr val="000514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3809880"/>
            <a:ext cx="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150920"/>
          <a:ext cx="762012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50920"/>
                    <a:ext cx="762012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38080" y="5791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thoxyresoruf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25780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72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Resoruf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048120"/>
            <a:ext cx="84582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hib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naphthoflavon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): 0.016,  0.08,  0.4,   2,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5268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006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588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YP1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4495680"/>
          <a:ext cx="3581280" cy="11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95680"/>
                    <a:ext cx="358128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562720" y="4572000"/>
          <a:ext cx="2895480" cy="10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572000"/>
                    <a:ext cx="28954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990720" y="380880"/>
          <a:ext cx="68580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6858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371600" y="6095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benzylfluoresc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0199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Garamond"/>
              </a:rPr>
              <a:t>Fluoresc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8769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4572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YP3A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438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hibi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etoconazol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1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72000" y="1676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62720" y="1676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400800" y="16761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3962520"/>
          <a:ext cx="3571920" cy="18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962520"/>
                    <a:ext cx="357192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410080" y="3733920"/>
          <a:ext cx="3124440" cy="217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733920"/>
                    <a:ext cx="312444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6324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graphpad.com/curvefit/inhibitors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4419720"/>
            <a:ext cx="8458200" cy="16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 + S 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 E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 +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 + I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4792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00400" y="4956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502920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51055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292640" y="53974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8960" y="55468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19:29:56Z</dcterms:created>
  <dc:creator>Technology Services</dc:creator>
  <dc:description/>
  <dc:language>en-US</dc:language>
  <cp:lastModifiedBy>Technology Services</cp:lastModifiedBy>
  <dcterms:modified xsi:type="dcterms:W3CDTF">2006-07-05T21:14:50Z</dcterms:modified>
  <cp:revision>23</cp:revision>
  <dc:subject/>
  <dc:title>Slide 1</dc:title>
</cp:coreProperties>
</file>