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A2F5-526C-425F-A4EB-EA4D4E97B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st drugs are metabolized by the liver’s P450 enzymes. Scientists want to know which drugs are metabolized, and which drugs inhibit metabolism so they can determine the benefit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533E-5B81-43F8-B35A-62282B1F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ACA0-BB27-4A32-A3A7-3DB37A4B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55A4-0A81-4458-80ED-31D1267B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F85F-2013-4CAC-BF02-7B487C1F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0B8A-DEB7-471E-991D-B3FA5778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1A31-C741-4329-B741-23038531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59BC-3E80-4C8A-B88F-08DF4303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A482-1A81-4506-BB85-DC125A7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ACB5-4135-4BF8-BE6B-2DD4AD05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B12-02E0-49D7-8C8B-52F9BFE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D61-D27D-4243-A6FC-0C94D09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64E5-E9F0-4918-949F-CE6FD0E7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BB42-6137-4B1B-9ADE-983502C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DEF4-E25D-4193-A5BC-855862E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0ABD-4F1C-4A3A-8A29-655F455E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50B4-B94B-4E7A-9909-B61F8738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744D-AC88-49AA-AD89-F9C57074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C2EF-E1D8-4B26-82E4-192E963E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3ADF-B0E1-4CD7-87B8-A2E92B6F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6325-929A-4042-B365-A5F2440F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9D0E-3E4C-42D9-A5B5-F359C907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26BB-1BB6-443F-B4A6-B3EB79C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5C11-A445-4D98-9A5E-189A8CB8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148C-0285-49F4-8DD2-9536EFC2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27AB-54E0-44A1-9D94-B40D585DF2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CF84-4865-4CD7-8FB7-73674139D5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lar.hw.ac.uk/site/biology/activity10.asp?outline=no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Franklin Gothic Medium"/>
              </a:rPr>
              <a:t>Creation of a P450 Array toward High-throughput Analysi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anklin Gothic Medium"/>
              </a:rPr>
              <a:t>Kumiko Sakai-Kato, Masaru Kato, Hiroshi Homma, Toshimasa Toyo’oka, and Naoko Utsunomiya-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6893" t="0" r="0" b="8329"/>
          <a:stretch/>
        </p:blipFill>
        <p:spPr>
          <a:xfrm>
            <a:off x="1600200" y="466560"/>
            <a:ext cx="6172200" cy="5400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06800" y="6141960"/>
            <a:ext cx="68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graphpad.com/curvefit/introduction7c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917280" y="251136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luores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69236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1400" y="2946240"/>
            <a:ext cx="304560" cy="30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7600" y="4073400"/>
            <a:ext cx="304920" cy="3049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165560"/>
            <a:ext cx="304560" cy="3049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5760" y="144360"/>
            <a:ext cx="8226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YP450 Isoforms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elative Amounts in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597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mada, T.; Yamazaki, H.; Mimura, M.; Inui, Y.; Guengerich, F.P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. Pharmacol. Exptl. 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414-42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1066680"/>
          <a:ext cx="88390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8390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ilitates the drug discovery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rgets key hepatic metabolic re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izes benefits / minimizes harmfulness of dru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6472" t="7500" r="9318" b="10004"/>
          <a:stretch/>
        </p:blipFill>
        <p:spPr>
          <a:xfrm>
            <a:off x="6781680" y="1523880"/>
            <a:ext cx="1981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Consid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2320" y="1523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number of chemicals to be tes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ropriate method of det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urate prediction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 viv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sponse to dru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752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bolism via P450 Enzy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450 enzymes are thermally  uns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bolism occurs in combination with other enzymes (e.g., reduct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666880"/>
          <a:ext cx="693432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-979560" y="6467400"/>
            <a:ext cx="110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lin, D. T.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extbook of Biochemistry: with Clinical Correlations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th Ed.; Wiley-Liss: 199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ib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scholar.hw.ac.uk/site/biology/activity10.asp?outline=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80880" y="3581280"/>
          <a:ext cx="838224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81280"/>
                    <a:ext cx="838224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28600" y="380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perimental Se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838080"/>
          <a:ext cx="243864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838080"/>
                    <a:ext cx="2438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7543800" y="12952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391160" y="182844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467120" y="1600200"/>
            <a:ext cx="6858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1880" y="1447920"/>
            <a:ext cx="762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1066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5238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2952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219320"/>
            <a:ext cx="44193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mmobilization of microsome using sodium silicat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90920" y="23623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Ketoconazole:   2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M   10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M  50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094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809880"/>
            <a:ext cx="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150920"/>
          <a:ext cx="762012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50920"/>
                    <a:ext cx="762012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38080" y="5791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thoxyresoruf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25780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72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Resoruf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84582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hibi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naphthoflavon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): 0.016,  0.08,  0.4,   2,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5268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8006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9588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YP1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4495680"/>
          <a:ext cx="3581280" cy="11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95680"/>
                    <a:ext cx="358128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562720" y="4572000"/>
          <a:ext cx="289548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4572000"/>
                    <a:ext cx="28954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90720" y="380880"/>
          <a:ext cx="68580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880"/>
                    <a:ext cx="6858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371600" y="6095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benzylfluoresc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60199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Garamond"/>
              </a:rPr>
              <a:t>Fluoresc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8769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4572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YP3A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438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hibi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toconazol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572000" y="1676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62720" y="1676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400800" y="1676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3962520"/>
          <a:ext cx="357192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962520"/>
                    <a:ext cx="357192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10080" y="3733920"/>
          <a:ext cx="3124440" cy="21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733920"/>
                    <a:ext cx="312444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6324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graphpad.com/curvefit/inhibitors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419720"/>
            <a:ext cx="8458200" cy="16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 + S 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 E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 +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 + I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44792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00400" y="49561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502920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5105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292640" y="53974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8960" y="55468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9:29:56Z</dcterms:created>
  <dc:creator>Technology Services</dc:creator>
  <dc:description/>
  <dc:language>en-US</dc:language>
  <cp:lastModifiedBy>Technology Services</cp:lastModifiedBy>
  <dcterms:modified xsi:type="dcterms:W3CDTF">2006-07-05T21:14:50Z</dcterms:modified>
  <cp:revision>23</cp:revision>
  <dc:subject/>
  <dc:title>Slide 1</dc:title>
</cp:coreProperties>
</file>