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10.jpeg" ContentType="image/jpeg"/>
  <Override PartName="/ppt/media/image16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5.pct" ContentType="image/x-pict"/>
  <Override PartName="/ppt/media/image26.pct" ContentType="image/x-pict"/>
  <Override PartName="/ppt/media/image25.pct" ContentType="image/x-pict"/>
  <Override PartName="/ppt/media/image24.pct" ContentType="image/x-pict"/>
  <Override PartName="/ppt/media/image4.png" ContentType="image/png"/>
  <Override PartName="/ppt/media/image15.pct" ContentType="image/x-pict"/>
  <Override PartName="/ppt/media/image27.png" ContentType="image/png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4.pct" ContentType="image/x-pict"/>
  <Override PartName="/ppt/media/image3.png" ContentType="image/png"/>
  <Override PartName="/ppt/media/image17.pct" ContentType="image/x-pi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BC3-550F-477B-8A2D-7895D978A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d Change range: 7-1 (log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9 genes expressed in arrested c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d Change range: 5-0.5 (log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totic centromere-associated kinesin - associated with pulling chromosomes apart in mito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ative gene from sequencing, shown upregulated 14 hrs after release from 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tudy t cruzi, what question I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 addressed the question as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made, futur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plete data set -&gt; hybridization 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findings made: support biological assum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one level you may remember the ol’ cell cycle diagram from intro 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C74-785A-4A2C-BCC8-AE7A46B9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323-328C-4100-8864-22332D46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F98-AD79-4D10-9E56-1213CFF0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C7EC-247B-452F-A4AF-BABE41E8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CFF4-575E-4145-9883-8A87BA1D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F1B2-BB93-477B-8D65-2E80FCA6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2D3C-8373-4CC7-B79A-FA27075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3D39-0CA3-49FE-A8A4-3799BB47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4FB6-CA1E-4557-A1C8-6F1EC4BA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C40-E3C7-4FC9-B912-0C147214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B662-C646-4864-98F1-95EEB216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B20-C3F7-4B25-BA9B-C9CC691C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8417-E14B-43AA-AFCD-873C25A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63B0-8C3B-418B-81CB-87B1796A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A2D-336A-4248-9625-DD12E62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052-637F-4D54-8814-49E120C2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6F4D-7055-476F-B972-8BE99F93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E09B-7E2F-4852-B665-6E1BA4E7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807F-A65E-4F4D-8DF1-EBD6D1CC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D80D3-254B-4AF7-B6B7-DF1B148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9615-C132-431F-8777-6A090B1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BF42-23D7-442E-BF9D-AC56CDDB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9E6-180D-441D-B3CB-6453EC7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2CB8-7C5C-44AF-B995-57049B94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C7A3-7D9B-45CF-B4E7-0E7CA72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F274-5744-484A-A8ED-07FF8EAB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6E093-BC41-42EA-9492-41E1F3A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7004-9CB0-4514-B82F-E26F1508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D569-FE3C-42AE-9D8B-B110AAFE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DDA0-C1C4-45DD-AD85-E593CB84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83330-681E-49E3-8394-F2E525A7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E9E6D-0716-4FCB-B8E6-AB117B9A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EE1AC-0262-4991-B298-8A179112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987-B55B-4DEC-AE39-1FB33C7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1E29A-305A-48E0-B863-E763CFAE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9FBD-819C-42A8-AF60-94663A5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1C82-B69F-496B-8AC6-C593DC0F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EECE-6828-4174-AF19-BB287C4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0B0F-8314-492D-A1C8-FBC180E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9103-CAC3-4ADA-8A17-3E6DF80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2B4B-E70E-4DC5-8BFF-032E1BDB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8C12F-8C1C-4568-B777-43F4D494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1E1C5-C14B-4D44-96B8-8221C453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656-7077-4B3A-A035-CE3E5C33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0D6-8C34-4459-B3BF-BD0B1659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964-BA7A-4150-BE1B-9AE3369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067-ACB0-4329-997E-9B97F19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1FC-4D44-40C0-962C-2E4234C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F355-06BB-4ACE-ACA9-28FC8BD82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07E1-C145-4AE6-B55D-7E8E87684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ADB8-2EEE-433C-9188-09F6BC2AE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10F-23F8-4F91-A403-20C9F4CF2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image" Target="../media/image18.pct"/><Relationship Id="rId8" Type="http://schemas.openxmlformats.org/officeDocument/2006/relationships/image" Target="../media/image19.pct"/><Relationship Id="rId9" Type="http://schemas.openxmlformats.org/officeDocument/2006/relationships/image" Target="../media/image20.pct"/><Relationship Id="rId10" Type="http://schemas.openxmlformats.org/officeDocument/2006/relationships/image" Target="../media/image20.pct"/><Relationship Id="rId11" Type="http://schemas.openxmlformats.org/officeDocument/2006/relationships/image" Target="../media/image20.pct"/><Relationship Id="rId12" Type="http://schemas.openxmlformats.org/officeDocument/2006/relationships/image" Target="../media/image20.pct"/><Relationship Id="rId13" Type="http://schemas.openxmlformats.org/officeDocument/2006/relationships/image" Target="../media/image21.pct"/><Relationship Id="rId14" Type="http://schemas.openxmlformats.org/officeDocument/2006/relationships/image" Target="../media/image21.pct"/><Relationship Id="rId1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image" Target="../media/image24.pct"/><Relationship Id="rId4" Type="http://schemas.openxmlformats.org/officeDocument/2006/relationships/image" Target="../media/image25.pct"/><Relationship Id="rId5" Type="http://schemas.openxmlformats.org/officeDocument/2006/relationships/image" Target="../media/image26.pct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Genetic characterization of  T. </a:t>
            </a: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cruzi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cell cycl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Kiel Telesfor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reg Buc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Patricio Manqu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na Maria Lar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yrna Serran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Questions raised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9240" y="167652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at specific genetic events are involved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8680" y="2819520"/>
            <a:ext cx="76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ow does the T. cruzi cell cycle compare with classical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Understanding of the process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4480" y="4343400"/>
            <a:ext cx="62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an certain crucial gene targets be exploited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r therapeutic treatment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First things first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eplicative epimastigote for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haracterize gene expression from one cell cycle stage to the nex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43160" y="-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266688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3429000" cy="381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124080" y="2819520"/>
            <a:ext cx="2210040" cy="625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124080" y="3733920"/>
            <a:ext cx="2133720" cy="682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3124080" y="4572000"/>
            <a:ext cx="2362320" cy="743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3124080" y="5638680"/>
            <a:ext cx="2362320" cy="619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1523880" y="0"/>
            <a:ext cx="5334120" cy="120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5486400" y="1143000"/>
            <a:ext cx="861840" cy="106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095880" y="2971800"/>
            <a:ext cx="1676520" cy="614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6172200" y="3962520"/>
            <a:ext cx="1676520" cy="614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6172200" y="4800600"/>
            <a:ext cx="1676520" cy="614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6248520" y="5638680"/>
            <a:ext cx="1676160" cy="61452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8153280" y="3276720"/>
            <a:ext cx="851040" cy="2603520"/>
            <a:chOff x="8153280" y="3276720"/>
            <a:chExt cx="851040" cy="2603520"/>
          </a:xfrm>
        </p:grpSpPr>
        <p:pic>
          <p:nvPicPr>
            <p:cNvPr id="214" name="" descr=""/>
            <p:cNvPicPr/>
            <p:nvPr/>
          </p:nvPicPr>
          <p:blipFill>
            <a:blip r:embed="rId13"/>
            <a:stretch/>
          </p:blipFill>
          <p:spPr>
            <a:xfrm>
              <a:off x="8153280" y="3276720"/>
              <a:ext cx="851040" cy="13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4"/>
            <a:stretch/>
          </p:blipFill>
          <p:spPr>
            <a:xfrm>
              <a:off x="8153280" y="4572000"/>
              <a:ext cx="851040" cy="130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wo channel microarra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Visualization of gene presence and regul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sing oligo chip containing cruzi genom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bservations: preliminary analysi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9480" y="1219320"/>
            <a:ext cx="2644920" cy="2227680"/>
            <a:chOff x="609480" y="1219320"/>
            <a:chExt cx="2644920" cy="2227680"/>
          </a:xfrm>
        </p:grpSpPr>
        <p:sp>
          <p:nvSpPr>
            <p:cNvPr id="220" name=""/>
            <p:cNvSpPr/>
            <p:nvPr/>
          </p:nvSpPr>
          <p:spPr>
            <a:xfrm>
              <a:off x="609480" y="304812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Scan slides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685800" y="1219320"/>
              <a:ext cx="2438280" cy="1650960"/>
              <a:chOff x="685800" y="1219320"/>
              <a:chExt cx="2438280" cy="1650960"/>
            </a:xfrm>
          </p:grpSpPr>
          <p:pic>
            <p:nvPicPr>
              <p:cNvPr id="2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219320"/>
                <a:ext cx="165096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2438280" y="2209680"/>
                <a:ext cx="685800" cy="0"/>
              </a:xfrm>
              <a:prstGeom prst="line">
                <a:avLst/>
              </a:prstGeom>
              <a:ln w="936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2282040" y="1295280"/>
            <a:ext cx="4441680" cy="2075400"/>
            <a:chOff x="2282040" y="1295280"/>
            <a:chExt cx="4441680" cy="207540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3352680" y="1295280"/>
              <a:ext cx="19051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282040" y="2971800"/>
              <a:ext cx="444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Griding and gathering intensity values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4120" y="2209680"/>
              <a:ext cx="106668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4771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26080" y="1371600"/>
            <a:ext cx="3519720" cy="2532600"/>
            <a:chOff x="5626080" y="1371600"/>
            <a:chExt cx="3519720" cy="253260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6629400" y="1371600"/>
              <a:ext cx="220968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626080" y="3200400"/>
              <a:ext cx="351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Normalization using MIDAS 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(Total Intensity normalization)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3960" y="3429000"/>
            <a:ext cx="4118040" cy="2532600"/>
            <a:chOff x="453960" y="3429000"/>
            <a:chExt cx="4118040" cy="253260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838080" y="3429000"/>
              <a:ext cx="236232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53960" y="5257800"/>
              <a:ext cx="345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Identification of Differentially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Expressed genes using MEV</a:t>
              </a:r>
              <a:endParaRPr b="0" lang="en-US" sz="20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04960" y="4572000"/>
              <a:ext cx="1067040" cy="0"/>
            </a:xfrm>
            <a:prstGeom prst="line">
              <a:avLst/>
            </a:prstGeom>
            <a:ln w="93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648320" y="3886200"/>
            <a:ext cx="2438280" cy="2212200"/>
            <a:chOff x="4648320" y="3886200"/>
            <a:chExt cx="2438280" cy="2212200"/>
          </a:xfrm>
        </p:grpSpPr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4648320" y="3886200"/>
              <a:ext cx="243828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802400" y="56386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Arial"/>
                </a:rPr>
                <a:t>SAM algorithm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069680" y="449568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ist of differentially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expressed genes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ata interpretation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stimated stage of cell cyc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ne expression based on genome sequen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ifferentially expressed genes between HU treated and untreated cells at T0, 6, 14, 24 h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ell cycle events 0hrs after releas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Parasites exiting G1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# differentially expressed genes (treated pop): 339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Genetic characteristics: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DNA Polymerase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ranscription Polymerase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Cytoskeleton components including myosin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gnal transduction: Protein Kinases, cAMP specific phosphodiasterase, etc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2438280" cy="1833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20968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ell cycle events 6hrs after releas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ybridization results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not viab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276720" cy="2462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2133360" cy="6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ell cycle events 14hrs after releas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Parasites in late phase of mitosi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# differentially expressed genes 152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Genetic characteristics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Mostly hypothetical proteins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ヒラギノ角ゴ Pro W3"/>
              </a:rPr>
              <a:t>_x0016_</a:t>
            </a:r>
            <a:r>
              <a:rPr b="0" lang="en-US" sz="2000" spc="-1" strike="noStrike">
                <a:solidFill>
                  <a:srgbClr val="003300"/>
                </a:solidFill>
                <a:latin typeface="ヒラギノ角ゴ Pro W3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totic centromere-associated kinesin (MCAK), putative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276720" cy="2462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236196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ell cycle events 24hrs after releas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Hybridization results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not viab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276720" cy="2462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638680" y="1371600"/>
            <a:ext cx="23623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ought proces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Observations/future direc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ata set incomplete for holistic characterizatio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eliminary findings confirm biological assumptions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resence of mitotic associated genes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at 14 hr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uplicate experiment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nfirm certain gene markers of different stages with RT PC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visualize with immunofluorescence microscopy or FAC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Demonstrate transcriptome similarity between amastigote and epimastigote for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Patricio Manqu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na Maria Lar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yrna Serran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Ron Smeltz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mily Boic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reg Buck and the Buckett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ancy Campbel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Jeff Elhai and BBSI administr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BSI program particpants and mentor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Questions/comment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y study </a:t>
            </a: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T. cruzi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arasite infecting millions every year in Central and South Americ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Unique organis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omplex multistage life cyc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xhibits eukaryotic and prokaryotic characteristic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2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the cell cycl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528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y study cell cycl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981080"/>
            <a:ext cx="65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What about host-parasite interaction??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1319040" cy="1380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800600" y="3048120"/>
            <a:ext cx="176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2286000" y="4038480"/>
            <a:ext cx="2895480" cy="156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1752480" y="1295280"/>
            <a:ext cx="227196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5562720" y="4952880"/>
            <a:ext cx="28954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ore than a proces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pagation of genom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eterminant of cell’s ultimate fat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yclins, Cyclin dependent kinases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(CDKs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19320" y="735120"/>
            <a:ext cx="6400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ell cycle it is! what do we know about </a:t>
            </a:r>
            <a:r>
              <a:rPr b="0" i="1" lang="en-US" sz="4400" spc="-1" strike="noStrike">
                <a:solidFill>
                  <a:srgbClr val="003300"/>
                </a:solidFill>
                <a:latin typeface="Arial"/>
              </a:rPr>
              <a:t>T. cruzi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. cruzi replicates!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4 hr replication cyc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orphologic characterizatio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nome reveals ~19 Cdk/cyclin gen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ighly regulated replication pattern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019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2T23:54:20Z</dcterms:created>
  <dc:creator>Thrall Doomhammer</dc:creator>
  <dc:description/>
  <dc:language>en-US</dc:language>
  <cp:lastModifiedBy>Thrall Doomhammer</cp:lastModifiedBy>
  <dcterms:modified xsi:type="dcterms:W3CDTF">2006-08-09T01:43:21Z</dcterms:modified>
  <cp:revision>149</cp:revision>
  <dc:subject/>
  <dc:title>Trypanosoma cruzi: cell cycle genetics</dc:title>
</cp:coreProperties>
</file>