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6E4-1799-4B90-82D9-35418890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35E-6C33-4DC8-A40C-C555B51C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CA7-37DC-4255-8215-9E387BA7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4A2-56A0-4C69-A023-22D05304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9613-8784-47DE-837E-76AF7C5F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ACF2-B4E3-45DF-8567-7861F70C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6D0-66FE-442F-9D9F-20C84FE1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ABB-2641-42B5-8CCC-CDC91517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5E0-168D-483B-A02C-9C3657B9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1BEB-093B-4D82-94FA-8458142E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F3F-7558-45B6-B4CC-A81DB0CB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40F-AD95-4C6B-9940-89D1264B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18C4-FA9B-448F-B18C-E4175FB04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360" y="1371600"/>
            <a:ext cx="58669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aze your friends and intimi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enemies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TML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38480" y="2971800"/>
            <a:ext cx="29433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3880"/>
            <a:ext cx="7924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OL&gt; Directions from New York City, NY to Paris, Fr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LI&gt; Drive to Ocean (about 200 mi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LI&gt; Swim across ocean (about 3462 mi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LI&gt; Drive to Paris (about 100 mi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O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15320" y="609480"/>
            <a:ext cx="85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list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8600"/>
            <a:ext cx="8001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ABLE BORDER="2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D COLSPAN="4" BGCOLOR="pink"&gt;&lt;CENTER&gt;Do you like me? (circle answer)&lt;/CENTER&gt;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D&gt;Yes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D&gt;No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D&gt;All Signs Point to Yes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D ROWSPAN="2"&gt;Perhaps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D&gt;Definitely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D COLSPAN="3"&gt;Unclear&lt;/T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37080" y="0"/>
            <a:ext cx="1213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able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1295280"/>
            <a:ext cx="66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ITLE&gt;titular content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 BGCOLOR="darkblue" text="cyan" link="cyan" vlink="cyan" alink="cyan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74280" y="609480"/>
            <a:ext cx="158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regime!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990720"/>
            <a:ext cx="8534520" cy="46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Bk BT"/>
              </a:rPr>
              <a:t>Troubleshoo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enguiat Bk BT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Benguiat Bk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nguiat Bk B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Benguiat Bk BT"/>
              </a:rPr>
              <a:t>&amp;%@$ it, dude.  Let’s go bowling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99% HTML catastrophes are from typo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fix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% You really don’t know how to do something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Google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ings are still ugly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CSS, XHTML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 want more interactio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Javascript, Java, Perl, DHTML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57200" y="1219320"/>
          <a:ext cx="342900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3429000" cy="39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262600" y="533520"/>
            <a:ext cx="507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ep at somebody’s source cod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029200" y="1219320"/>
          <a:ext cx="3562200" cy="39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219320"/>
                    <a:ext cx="35622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203480" y="54514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ef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1520" y="54864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52280"/>
            <a:ext cx="8001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More instruct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TML Goodies… http://www.htmlgoodies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3 Schools… http://www.w3schools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avascript Source… http://javascript.interne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Text ed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imson Editor… http://www.crimsoneditor.com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List Apart… http://alistapar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SS Zen Garden… http://www.csszengarde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609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enguiat Bk BT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Benguiat Bk BT"/>
              </a:rPr>
              <a:t>The thinking human being unable to express himself stands at the same level as those who cannot think</a:t>
            </a:r>
            <a:r>
              <a:rPr b="0" i="1" lang="en-US" sz="2400" spc="-1" strike="noStrike">
                <a:solidFill>
                  <a:srgbClr val="000000"/>
                </a:solidFill>
                <a:latin typeface="Benguiat Bk BT"/>
              </a:rPr>
              <a:t>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enguiat Bk BT"/>
              </a:rPr>
              <a:t>-- Peric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943600" y="2286000"/>
            <a:ext cx="2381400" cy="2038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62485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6248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u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graffiti" descr=""/>
          <p:cNvPicPr/>
          <p:nvPr/>
        </p:nvPicPr>
        <p:blipFill>
          <a:blip r:embed="rId2"/>
          <a:stretch/>
        </p:blipFill>
        <p:spPr>
          <a:xfrm>
            <a:off x="6648480" y="3657600"/>
            <a:ext cx="2495520" cy="1192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23880" y="2362320"/>
            <a:ext cx="2552760" cy="29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429000" y="3048120"/>
            <a:ext cx="1766880" cy="1828800"/>
          </a:xfrm>
          <a:prstGeom prst="rect">
            <a:avLst/>
          </a:prstGeom>
          <a:ln w="0">
            <a:noFill/>
          </a:ln>
        </p:spPr>
      </p:pic>
      <p:pic>
        <p:nvPicPr>
          <p:cNvPr id="50" name="radio" descr=""/>
          <p:cNvPicPr/>
          <p:nvPr/>
        </p:nvPicPr>
        <p:blipFill>
          <a:blip r:embed="rId5"/>
          <a:stretch/>
        </p:blipFill>
        <p:spPr>
          <a:xfrm>
            <a:off x="4724280" y="3352680"/>
            <a:ext cx="1424160" cy="1881360"/>
          </a:xfrm>
          <a:prstGeom prst="rect">
            <a:avLst/>
          </a:prstGeom>
          <a:ln w="0">
            <a:noFill/>
          </a:ln>
        </p:spPr>
      </p:pic>
      <p:pic>
        <p:nvPicPr>
          <p:cNvPr id="51" name="cave" descr=""/>
          <p:cNvPicPr/>
          <p:nvPr/>
        </p:nvPicPr>
        <p:blipFill>
          <a:blip r:embed="rId6"/>
          <a:stretch/>
        </p:blipFill>
        <p:spPr>
          <a:xfrm>
            <a:off x="380880" y="4114800"/>
            <a:ext cx="2059200" cy="157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5791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81680" y="57913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26640" y="1185840"/>
            <a:ext cx="734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internet is a participatory mediu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781680" cy="3189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5320" y="5334120"/>
            <a:ext cx="24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thpastefordinner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457200"/>
            <a:ext cx="784836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What is HTM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p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x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rkup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guage = HTML.  It is the native language of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What is HTML no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hat seems like a pretty trivial distinction,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t’s not. HTML was invented to make web publishing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mor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ccessible to normal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326320" y="609480"/>
            <a:ext cx="451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hy learn HTML at all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1981080"/>
            <a:ext cx="44960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cause the machine should work for you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o the extent that you hold the reig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2971800" cy="428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86200" y="1600200"/>
            <a:ext cx="4495680" cy="4338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umans make simple, easy to read and efficient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bots make cumbersome, confusing and often inefficient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2520" y="1676520"/>
            <a:ext cx="4647960" cy="4511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roubleshoo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esign Contr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Learn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080" y="193680"/>
            <a:ext cx="847404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diting your web page in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e a new text document called whatever you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ight click on the file and select “Open With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oose Notepad. Microsoft Word isn’t your friend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It’s HTML time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Write so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oose “Save as.” Save the file as “whatever.htm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en the newly created html file in a web browser.  You may need to refresh the browser to see your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we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5181480"/>
            <a:ext cx="68580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4495680"/>
            <a:ext cx="685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7280" y="5867280"/>
            <a:ext cx="685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5181480"/>
            <a:ext cx="685800" cy="60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4495680"/>
            <a:ext cx="68580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5867280"/>
            <a:ext cx="68580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5181480"/>
            <a:ext cx="68580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4495680"/>
            <a:ext cx="685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5867280"/>
            <a:ext cx="685800" cy="609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6857640" y="563868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0" y="480060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7353000" y="521964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6362640" y="521928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4920" y="152280"/>
            <a:ext cx="8381880" cy="61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ichotomous tags 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a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tag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ext you see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ta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. &lt;strong&gt; this text is bold &lt;/stro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odi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tag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ttribute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“value”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xt you se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&lt;/ta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. &lt;font color=“salmon”&gt; this text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lmon colored &lt;/fo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ne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tag1&gt;&lt;tag2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attribute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“value”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x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tag2&gt;&lt;/tag1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. &lt;I&gt;&lt;FONT size=“2”&gt;this text is italicized and siz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&lt;/FONT&gt;&lt;/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nestico" descr=""/>
          <p:cNvPicPr/>
          <p:nvPr/>
        </p:nvPicPr>
        <p:blipFill>
          <a:blip r:embed="rId1"/>
          <a:stretch/>
        </p:blipFill>
        <p:spPr>
          <a:xfrm>
            <a:off x="7086600" y="3581280"/>
            <a:ext cx="1454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762120"/>
            <a:ext cx="8382240" cy="53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Other types of ta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unpaired, but still attribu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IMG SRC=“http://…” BORDER=“1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R WIDTH=“50%” COLOR=“lime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unpaired, no attribute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aired, no attribute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1&gt; Text will be a level 1 heading.  Pretty Big &lt;/H1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6&gt; Text will be a level 6 heading.  Illegibly small. &lt;/H6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n Cohn</cp:lastModifiedBy>
  <dcterms:modified xsi:type="dcterms:W3CDTF">2007-06-08T09:56:04Z</dcterms:modified>
  <cp:revision>8</cp:revision>
  <dc:subject/>
  <dc:title>PowerPoint Presentation</dc:title>
</cp:coreProperties>
</file>