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9F29-FBA9-4411-8C19-94AFE135C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 gene will be readily expressed for it has a highly active transcription initiator signal. Once the lytic cycle initiates proteins encoded by H gene are likely to get incorporated into the phage caps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PS  composes part of the outer membrane in most gram-negative bacte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is to create tw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K12 strands that are identical with the exception of the rfbD ge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letion of a guanine is most likely creating the mutant for the point mutation creates a frameshift mutation. A frameshift mutation at the 3’ end of the mutant causes a coding change from alanine to histid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86A6-ED06-4878-9FFA-ECB35104B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idea of this P1 transduction is to create a wild type from a mutant. As mentioned Wphi will plate to the wild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CA2-9C87-4AFF-816E-E68D5534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n10 is in the planking regions of the rfbD gene so during the P1 transduction it should be taken up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24 tete resistant colonies some formed plaques where the WF and the colonies intersect and some did not. Three colonies from the plaque forming and three from the non-plaque forming colonies were grown into top agar and a spot test using various concentrations of WF. There is no distinguishable difference from the concentration the WF will plat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ophages, phages, significantly affect the population dynamics of bacteria as phages are a medium for transferring DNA from one bacterium to another. The range of bacteria that a phage can bind too is known as its host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st range in the majority of phages is largely controlled by two stipulating factors: 1. the tail fibers on the phage, and 2. the receptors located on the bacter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hi is genetically similar to the temperate P2 phage. However, a striking difference is seen in the plating of these phages on differe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r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causes this discrepancies. Well as mentioned the tail fibers and receptors largely influence the host range, therefore this is a logical place to begin. So my research has two par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is slide shows a comparison of the tail fiber proteins of P2 and W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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  Amino acids boxed in red are the few that differ between the tw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 previous studies, a Wphi host range mutant was isolated as a rare plaque that arose when Wphi was plated on E. coli B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sequence of the tail fiber gene of the mutant Wphi, which grows on E. coli B, shows 6 mutations in the mutant phage sequence. However only 4 change the amino acids (Shown in oran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estingly 3 of these change the amino acids back to those found in P2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SEARCH AIM 1: Determine whether these changes in the tail fiber are sufficient to allow Wphi to plate on E. coli B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 with EcoR1 and BamH1 allow for the removal of the ribosomal binding site (RBS). The RBS from the H gene will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83AD-F8F3-4C8D-9645-4290F7FA1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gest was done with Bgl2 because if there is a great deal of background from phage, then we can cut again with Bgl2 and it will not cut open the plasmid with the insert. These are the overhanging nucleotides: (GATC) (CTA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528E-6B6D-468D-B882-15F552A0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4780-500C-4B64-889C-E18C3639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853F-481A-42B6-B99D-B569801A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1ADA-2A74-48C1-96AC-DDA48DBD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D6C5-47F7-4299-9A62-84719C23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8499-B8CB-4AB1-8494-72ECFE23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816-097C-4FFD-BBBE-5771E108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48AD-D6E9-4B77-A6B4-D81C643E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476-ED29-4065-ACA3-9E313336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4FCF-9DF5-4241-A49B-4642DD23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8695-9027-4C44-BFDD-AAE7E7D7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15E3-A352-488E-998D-0E27909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DF06-E8AA-4221-AC03-2492610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3F2-E1A6-4A51-B2A8-24984F59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4FCD-52DE-4227-BAA7-B106588D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4B89-BC7A-43CC-B719-A430A051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3E95-4F53-43FF-AE3B-DA92F33C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6566-9C83-4DD8-A052-A1E862ED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A76D-0BDE-43D0-A70B-2471A50F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7002-710F-41D6-B28C-8228F514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5325-51CF-4D01-9C6B-BE1CB97D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FE51-B3BA-4091-93A2-A564A63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195A-23BE-4981-80D8-AFB0D41D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75C0-E841-46E3-B54A-570F869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01C4-5FF4-40CB-8ED9-E546261D2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AC3F-6AAF-4841-9B6A-B9F5C90E2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95480" y="2006640"/>
            <a:ext cx="581688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ost Range Determinants of the P2 Related Bacteriophage W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ames Kokorelis (JM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Mutant Plate 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. coli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1905120"/>
            <a:ext cx="29718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743200" y="4800600"/>
          <a:ext cx="141120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800600"/>
                    <a:ext cx="141120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209680" y="2700360"/>
            <a:ext cx="1057320" cy="600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72200" y="2638440"/>
            <a:ext cx="990720" cy="561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1752480" y="4862520"/>
            <a:ext cx="1219320" cy="69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1752480"/>
            <a:ext cx="289584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3276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62120" y="3025800"/>
            <a:ext cx="990360" cy="563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581280" y="274320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ene is ex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335268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3526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31240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358128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31240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767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21337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24382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28195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27432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25909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29600" y="22860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458200" y="25146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15200" y="36576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8098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380988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1337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23623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24382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8195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86800" y="29718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66520" y="3276720"/>
            <a:ext cx="3505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685800" y="5638680"/>
            <a:ext cx="990720" cy="657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7696080" y="2895480"/>
            <a:ext cx="1219320" cy="811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58000" y="35053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32767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763120" y="28195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67480" y="32767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34290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96080" y="24382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0120" y="25909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96080" y="29718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8769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27432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1880" y="24382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610480" y="26668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36576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67480" y="38098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37339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37339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6600" y="22860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25146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25909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10480" y="29718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39080" y="31240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267080"/>
            <a:ext cx="2743200" cy="23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4952880"/>
            <a:ext cx="745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4800600"/>
            <a:ext cx="7488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6120" y="52578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44197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44956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51055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541008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54100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55627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57150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57913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57913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61722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45720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59436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45720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63244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50292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53341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4864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666880" y="6172200"/>
            <a:ext cx="6172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4038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2940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51814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lytic cycle initiates proteins encoded by H gene are likely to get incorpora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295280" y="1463760"/>
          <a:ext cx="571500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63760"/>
                    <a:ext cx="571500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ly encoded Tail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59600" y="22464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grow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1720" y="2771640"/>
            <a:ext cx="79329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alyzing the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rfb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ge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=12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f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parison of the genotype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-12 strains that fail to plate W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veals that they all carry a common mut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fbD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f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product catalyzes the final step in dTDP-rhamnose biosynthesis.  This is the synthesis pathway for an element of bacterial LPS as well as O antige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fbD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tant has been shown to have altered L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3520" y="2681280"/>
            <a:ext cx="8153280" cy="2079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943600" y="3886200"/>
            <a:ext cx="38088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781680" y="5257800"/>
            <a:ext cx="687600" cy="914400"/>
            <a:chOff x="6781680" y="5257800"/>
            <a:chExt cx="687600" cy="914400"/>
          </a:xfrm>
        </p:grpSpPr>
        <p:pic>
          <p:nvPicPr>
            <p:cNvPr id="303" name="" descr=""/>
            <p:cNvPicPr/>
            <p:nvPr/>
          </p:nvPicPr>
          <p:blipFill>
            <a:blip r:embed="rId2"/>
            <a:srcRect l="22722" t="17725" r="36370" b="22300"/>
            <a:stretch/>
          </p:blipFill>
          <p:spPr>
            <a:xfrm>
              <a:off x="6781680" y="5257800"/>
              <a:ext cx="6858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rcRect l="63817" t="17601" r="18110" b="22424"/>
            <a:stretch/>
          </p:blipFill>
          <p:spPr>
            <a:xfrm>
              <a:off x="7165800" y="5257800"/>
              <a:ext cx="303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 rot="16200000">
            <a:off x="6825240" y="4757400"/>
            <a:ext cx="5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fb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fbD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480" y="6248520"/>
            <a:ext cx="16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lena &amp; Schnaitman (199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 Bacteriol. 176:4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320" y="5867280"/>
            <a:ext cx="503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OTHESIS: Th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fbD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mutation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sorption of W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because of the altered L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6858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:  Construct a pair of otherwise ident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12 strains that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fb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fbD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est plating of 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need to identify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fbD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886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ld type strain used is CAG12099(P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tant strain is M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ce analysis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fbD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fbD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3200400"/>
            <a:ext cx="5486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>
            <a:lum bright="6000"/>
          </a:blip>
          <a:srcRect l="8336" t="11111" r="16815" b="18540"/>
          <a:stretch/>
        </p:blipFill>
        <p:spPr>
          <a:xfrm>
            <a:off x="2743200" y="1371600"/>
            <a:ext cx="13716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4343400" y="990720"/>
            <a:ext cx="1142640" cy="1904400"/>
            <a:chOff x="4343400" y="990720"/>
            <a:chExt cx="1142640" cy="19044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rcRect l="6730" t="17065" r="0" b="0"/>
            <a:stretch/>
          </p:blipFill>
          <p:spPr>
            <a:xfrm>
              <a:off x="4343400" y="990720"/>
              <a:ext cx="1142640" cy="14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3"/>
            <a:srcRect l="6730" t="0" r="0" b="71594"/>
            <a:stretch/>
          </p:blipFill>
          <p:spPr>
            <a:xfrm>
              <a:off x="4343400" y="2394000"/>
              <a:ext cx="1142640" cy="50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"/>
          <p:cNvSpPr/>
          <p:nvPr/>
        </p:nvSpPr>
        <p:spPr>
          <a:xfrm>
            <a:off x="3057480" y="91440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fb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21880" y="9144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fb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67080" y="2590920"/>
            <a:ext cx="11430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3b12c"/>
                </a:solidFill>
                <a:latin typeface="Tahoma"/>
              </a:rPr>
              <a:t>A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G G G </a:t>
            </a:r>
            <a:r>
              <a:rPr b="1" lang="en-US" sz="1100" spc="-1" strike="noStrike">
                <a:solidFill>
                  <a:srgbClr val="03b12c"/>
                </a:solidFill>
                <a:latin typeface="Tahoma"/>
              </a:rPr>
              <a:t>A A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90920"/>
            <a:ext cx="13716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3b12c"/>
                </a:solidFill>
                <a:latin typeface="Tahoma"/>
              </a:rPr>
              <a:t>A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G G G G </a:t>
            </a:r>
            <a:r>
              <a:rPr b="1" lang="en-US" sz="1100" spc="-1" strike="noStrike">
                <a:solidFill>
                  <a:srgbClr val="03b12c"/>
                </a:solidFill>
                <a:latin typeface="Tahoma"/>
              </a:rPr>
              <a:t>A A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14800" y="25909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6360" y="2895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8560" y="2895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7680" y="2971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9a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3581280"/>
            <a:ext cx="4419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358128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71840" y="33177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5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85800" y="3657600"/>
            <a:ext cx="4648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365760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28600" y="4495680"/>
            <a:ext cx="9296280" cy="824040"/>
            <a:chOff x="228600" y="4495680"/>
            <a:chExt cx="9296280" cy="824040"/>
          </a:xfrm>
        </p:grpSpPr>
        <p:sp>
          <p:nvSpPr>
            <p:cNvPr id="331" name=""/>
            <p:cNvSpPr/>
            <p:nvPr/>
          </p:nvSpPr>
          <p:spPr>
            <a:xfrm>
              <a:off x="228600" y="4495680"/>
              <a:ext cx="9296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</a:rPr>
                <a:t>ccc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tgcactcaacaagctcaacgcagtaccaacaacagcctatcctacaccagctcgtcgtccacataact…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  L  A  L  N  K  L  N  A  V  P  T  T  A  Y  P  T  P  A  R  R  P  H  N  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</a:rPr>
                <a:t>L  H  S  T  S  S  T  Q  Y  Q  Q  Q  P  I  L  H  Q  L  V  V  H  I  T …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82040" y="4853160"/>
              <a:ext cx="570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fbD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fb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Isogenic St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trans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transduction is advantageous because it packages from random double-stranded breaks on the chromosome that are generated during phage 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066680" y="2114640"/>
          <a:ext cx="670572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14640"/>
                    <a:ext cx="670572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6858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duction was done via linkage – tet markers close together on the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 colonies are plated on tetracycline plates to see if they will grow. There should not be any growth on the tubes 4 and 5 because they are the controls and either lack cells or 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495680"/>
            <a:ext cx="106668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62920" y="4495680"/>
            <a:ext cx="106668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495680"/>
            <a:ext cx="106704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4495680"/>
            <a:ext cx="106704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4495680"/>
            <a:ext cx="106668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024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164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292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29560" y="552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92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48769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4876920"/>
            <a:ext cx="7596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51814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5720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72428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49528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472428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52578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510552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48006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8006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19520" y="495288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9720" y="5257800"/>
            <a:ext cx="7596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705720" y="1828800"/>
          <a:ext cx="220968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828800"/>
                    <a:ext cx="220968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6 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8 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 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594360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colo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stinguishable Phage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752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et resistant colonies were test for growth on 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752480" y="2795760"/>
          <a:ext cx="487692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95760"/>
                    <a:ext cx="487692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629400" y="205740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94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fb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R1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fb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4114800"/>
          <a:ext cx="16002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14800"/>
                    <a:ext cx="16002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p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l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mentation will demonstrate that the presence of the altered sequence on a plasmid is sufficient to confer the change in specificity thus demonstrating that these alteration contribute to the modifying of the host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f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erring of the rfbD+ gene purportedly alters the LPS that was encoded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fbD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 thus the 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age is able to bind. To demonstrate more effectively a primer have been designed to cut at the point mutatio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1664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teriophages are important in microbial evolution and pathogenesis as they facilitate the transfer of genetic information between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teriophages are specific to certain host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 different surface structures to allow adsor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 work was supported by grant EEC0234104 from the NSF/NIH   Bioinformatics and Bioengineering Summer Institute progra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ople in the VCU/MCV Lab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ail E. Chris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ra Tall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Olivar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n Fel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me mentor at James Madison University (JMU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Louis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487692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jard, 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pUH-Expression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University of Heidelber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ers, Mark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teroduplex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6 july 200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chem.northwestern.edu/holmgren/Glossary/Definitions/Def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heteroduplex_analysis.ht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080" y="468360"/>
            <a:ext cx="28958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9999cc"/>
                </a:solidFill>
                <a:latin typeface="Arial"/>
              </a:rPr>
              <a:t>?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4572360"/>
            <a:ext cx="70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maltose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 adsorbs to the TonB (iron)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hages (P1, P2, Mu) recognize L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amentous phages adsorb to F p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436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W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066680"/>
            <a:ext cx="7086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 isolated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 col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in W.  It is similar in morphology to temperate bacteriophage P2, and genome sequence analysis reveals extensive homology to P2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a striking difference is seen in the plating of these phages on differ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000" y="3352680"/>
            <a:ext cx="4984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 col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ting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2    W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CC963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      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834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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-1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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K-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H5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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R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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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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121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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M10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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M294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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C106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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factors that contribute to the difference in host r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ge tail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97180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research has two related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- confirming the role of C-terminal amino acids in the phage tail fiber gene in determining host range specif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 - confirming the ro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fb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phage 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st ran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638680" y="6324480"/>
            <a:ext cx="92160" cy="401760"/>
          </a:xfrm>
          <a:prstGeom prst="rect">
            <a:avLst/>
          </a:prstGeom>
          <a:solidFill>
            <a:srgbClr val="ffa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4495680"/>
            <a:ext cx="9216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5257800"/>
            <a:ext cx="9216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5257800"/>
            <a:ext cx="9216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6019920"/>
            <a:ext cx="9216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6019920"/>
            <a:ext cx="9180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6019920"/>
            <a:ext cx="9180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5257800"/>
            <a:ext cx="9216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4495680"/>
            <a:ext cx="9216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4495680"/>
            <a:ext cx="9216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733920"/>
            <a:ext cx="9216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447920"/>
            <a:ext cx="9216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1447920"/>
            <a:ext cx="9216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1447920"/>
            <a:ext cx="9216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1447920"/>
            <a:ext cx="9180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1447920"/>
            <a:ext cx="9216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209680"/>
            <a:ext cx="9216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209680"/>
            <a:ext cx="9180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2209680"/>
            <a:ext cx="92160" cy="40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733920"/>
            <a:ext cx="9216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53280" y="3733920"/>
            <a:ext cx="92160" cy="40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parison of Tail Fiber Gene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4160" y="65530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3440" y="65530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8840" y="65530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2880" y="50086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6324480"/>
            <a:ext cx="91800" cy="401760"/>
          </a:xfrm>
          <a:prstGeom prst="rect">
            <a:avLst/>
          </a:prstGeom>
          <a:solidFill>
            <a:srgbClr val="ffa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6324480"/>
            <a:ext cx="91800" cy="401760"/>
          </a:xfrm>
          <a:prstGeom prst="rect">
            <a:avLst/>
          </a:prstGeom>
          <a:solidFill>
            <a:srgbClr val="ffa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800600"/>
            <a:ext cx="92160" cy="401760"/>
          </a:xfrm>
          <a:prstGeom prst="rect">
            <a:avLst/>
          </a:prstGeom>
          <a:solidFill>
            <a:srgbClr val="ffa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2680" y="1371600"/>
            <a:ext cx="848628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SIKFRTVITTAGAAKLAAATAPGRRKVGITTMAVGDGGGKLPVPDAGQTGLIHEVWRHALNKISQDKRNSNYIIAELVIPPEVGGFWMRELGLYDDAGT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| ||:|||||||| ||||||||| ||| |||||||||||||||||||||||||||||||||||||||||||||||||||||||||||||||||||||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STKFKTVITTAGAVKLAAATAPGGRKVNITTMAVGDGGGKLPVPDAGQTGLIHEVWRHALNKISQDKRNSNYIIAELVIPPEVGGFWMRELGLYDDAGT 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         .         .         .         .         .         .         .         .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1 LIAVANMAESYKPALAEGSGRWQTCRMVIIVSSVASVELTIDTTTVMATQDYVDDKIAEHEQSRRHPDASLTAKGFTQLSSATNSTSETLAATPKAVKAA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|||||||||||| ||||||| ||||||||||||||||||||||||||||||||||||||||||||||||||||||||||.|||||||||||||||||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1 LIAVANMAESYKPTLAEGSGRSQTCRMVIIVSSVASVELTIDTTTVMATQDYVDDKIAEHEQSRRHPDASLTAKGFTQLSNATNSTSETLAATPKAVKAA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         .         .         .         .         .         .         .         .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1 YDLANGKYTAQDATTARKGLVQLSSATNSTSETLAATPKAVKTVMDETNKKAPLNSPALTGTPTTPTARQGTNNTQIANTAFVMAAIAALVDSSPDALNT 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|||||||||||||||||||||||||||||||||||||||||||||||||||||||||||||||||||||||||||||||||||||||||||||||||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1 YDLANGKYTAQDATTARKGLVQLSSATNSTSETLAATPKAVKTVMDETNKKAPLNSPALTGTPTTPTARQGTNNTQIANTAFVMAAIAALVDSSPDALNT 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         .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.         .         .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.         .         .         .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1 LNELAAALGNDPNFATTMTNALAGKQPKDATLTALAGLATAADRFPYFTGNDVASLATLTKVGRDILAKSTVAAVIEYLGLQETVNRAGNAVQKNGDTLS 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|||||||||||||||||||||| |||||||||||||||||||||||||||||||||||||||||||||||||||||||||||||||| ||||||||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1 LNELAAALGNDPNFATTMTNALASKQPKDATLTALAGLATAADRFPYFTGNDVASLATLTKVGRDILAKSTVAAVIEYLGLQETVNRARNAVQKNGDILS 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         .         .         .         .         .         .         .         .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1 GGLTFENDSILAWIRNTDWAKIGFKNDADGDTDSYMWFETGDNGNEYFKWRSRQSTTTKDLMTLKWDALNILVNAVINGCFGVGTTNALGGSSIVLGDND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|:|||||||||||||||||||||||||||| |||||||||||||||||||||||||||||||||||||||||||||||| |||||||||||||||||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1 GGITFENDSILAWIRNTDWAKIGFKNDADGDADSYMWFETGDNGNEYFKWRSRQSTTTKDLMTLKWDALNILVNAVINGCLGVGTTNALGGSSIVLGDND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.         .         .         .         .         .         .         .         .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1 TGFKQNGDGILDVYANSQRVFRFQNGVAIAFKNIQAGDSKKFSLSSSNTSTKNITFNLWGASTRPVVAELGDEAGWHFYSQRNTDNSVIFAVNGQMQPSN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|||||||||||||||||||||||||||||||||| |||||||||||||||||||||||||| ||||||||||.||||||||||||||||||||||||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1 TGFKQNGDGILDVYANSQRVFRFQNGVAIAFKNIQVGDSKKFSLSSSNTSTKNITFNLWGASNRPVVAELGDESGWHFYSQRNTDNSVIFAVNGQMQPSN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         .         .         .         .         .         .         .         .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01 WGNFDSRYVKDVRLGTRVVQLMARGGRYEKAGHTITGLRIIGEVDGDDEAIFRPIQKYINGTWYNVAQV 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||||||||||||||||| |||||||||||||||||||||||||||||||| |||||||||||| ||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01 WGNFDSRYVKDVRLGTRVDQLMARGGRYEKAGHTITGLRIIGEVDGDDEAIVRPIQKYINGTWYIVAQV 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         .         .         .         .         .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6680" y="50227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43000" y="65469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3440" y="65530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295280"/>
            <a:ext cx="609120" cy="5466600"/>
            <a:chOff x="0" y="1295280"/>
            <a:chExt cx="609120" cy="5466600"/>
          </a:xfrm>
        </p:grpSpPr>
        <p:sp>
          <p:nvSpPr>
            <p:cNvPr id="159" name=""/>
            <p:cNvSpPr/>
            <p:nvPr/>
          </p:nvSpPr>
          <p:spPr>
            <a:xfrm>
              <a:off x="0" y="1295280"/>
              <a:ext cx="52200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2057400"/>
              <a:ext cx="52200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5105520"/>
              <a:ext cx="6091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4343400"/>
              <a:ext cx="609120" cy="8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hr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3591000"/>
              <a:ext cx="52200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2833560"/>
              <a:ext cx="52200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867280"/>
              <a:ext cx="609120" cy="8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hr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7440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 gene in the phage DNA encodes the tail fibe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idea is to take the H gene from the 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range mutan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sert it into the pUHE24-2 plasmid and compare its growth to the wild type 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HE24-2 is the plasmid used,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HE24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gene expression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ge T7-promoter 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mbined with two lac operators is tightly repressible, but upon induction it is a highly active transcription initiator sig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ting with BamH1 and EcoR1 will cut out the ribosome binding site (RBS). The RBS will be used from the H gene, in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4800600"/>
          <a:ext cx="9144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00600"/>
                    <a:ext cx="9144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800" y="5410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2057400"/>
          <a:ext cx="190512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190512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867280" y="2897280"/>
            <a:ext cx="781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3200400" y="2514600"/>
            <a:ext cx="835200" cy="936360"/>
            <a:chOff x="3200400" y="2514600"/>
            <a:chExt cx="835200" cy="936360"/>
          </a:xfrm>
        </p:grpSpPr>
        <p:graphicFrame>
          <p:nvGraphicFramePr>
            <p:cNvPr id="178" name=""/>
            <p:cNvGraphicFramePr/>
            <p:nvPr/>
          </p:nvGraphicFramePr>
          <p:xfrm>
            <a:off x="3264480" y="3029760"/>
            <a:ext cx="622080" cy="42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64480" y="3029760"/>
                      <a:ext cx="622080" cy="42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3200400" y="2514600"/>
              <a:ext cx="83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 g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676520" y="3024360"/>
            <a:ext cx="121896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1752480"/>
            <a:ext cx="109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with jkh1 and jkh2 pr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15238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-up then gel extraction then digest with EcoR1 and Bgl2 then clean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43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AT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T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4648320"/>
          <a:ext cx="1371600" cy="14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4648320"/>
                    <a:ext cx="13716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1676520" y="4495680"/>
            <a:ext cx="1676160" cy="990720"/>
            <a:chOff x="1676520" y="4495680"/>
            <a:chExt cx="1676160" cy="990720"/>
          </a:xfrm>
        </p:grpSpPr>
        <p:sp>
          <p:nvSpPr>
            <p:cNvPr id="190" name=""/>
            <p:cNvSpPr/>
            <p:nvPr/>
          </p:nvSpPr>
          <p:spPr>
            <a:xfrm>
              <a:off x="1676520" y="5486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52480" y="4495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t with EcoR1 and BamH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648320"/>
            <a:ext cx="2133720" cy="1600200"/>
            <a:chOff x="3352680" y="4648320"/>
            <a:chExt cx="2133720" cy="1600200"/>
          </a:xfrm>
        </p:grpSpPr>
        <p:graphicFrame>
          <p:nvGraphicFramePr>
            <p:cNvPr id="193" name=""/>
            <p:cNvGraphicFramePr/>
            <p:nvPr/>
          </p:nvGraphicFramePr>
          <p:xfrm>
            <a:off x="3352680" y="4648320"/>
            <a:ext cx="1409760" cy="1600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352680" y="4648320"/>
                      <a:ext cx="140976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3809880" y="5029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AT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1120" y="5562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GAT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181480" y="3581280"/>
            <a:ext cx="3581640" cy="1685880"/>
            <a:chOff x="5181480" y="3581280"/>
            <a:chExt cx="3581640" cy="1685880"/>
          </a:xfrm>
        </p:grpSpPr>
        <p:sp>
          <p:nvSpPr>
            <p:cNvPr id="198" name=""/>
            <p:cNvSpPr/>
            <p:nvPr/>
          </p:nvSpPr>
          <p:spPr>
            <a:xfrm>
              <a:off x="6019920" y="35812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181480" y="4647960"/>
              <a:ext cx="1219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4267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g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1" name=""/>
            <p:cNvGraphicFramePr/>
            <p:nvPr/>
          </p:nvGraphicFramePr>
          <p:xfrm>
            <a:off x="6629400" y="3848040"/>
            <a:ext cx="2133720" cy="1419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629400" y="3848040"/>
                      <a:ext cx="213372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5:53:48Z</dcterms:created>
  <dc:creator>microbiology &amp; immunology</dc:creator>
  <dc:description/>
  <dc:language>en-US</dc:language>
  <cp:lastModifiedBy>Themetri</cp:lastModifiedBy>
  <cp:lastPrinted>2002-05-03T17:46:48Z</cp:lastPrinted>
  <dcterms:modified xsi:type="dcterms:W3CDTF">2005-08-08T06:39:58Z</dcterms:modified>
  <cp:revision>17</cp:revision>
  <dc:subject/>
  <dc:title>Isolation and characterization  of a WF host range mutant</dc:title>
</cp:coreProperties>
</file>