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27F-0D6B-4EAD-8482-366AB556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39C-FCC4-430B-BB21-0EDC0A31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868-0E6F-4C78-8673-0C1D30D9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BA4-F113-43F5-9F1C-9049884E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E76-0123-4E5A-8247-A1B832A7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E29-8AD1-4448-96A2-6F274AB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D52-B4E9-4563-8F2B-CA5F23C1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CFA-8F89-48D8-B415-2E35B102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037-BACD-4EEE-9917-BF080819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EB7-9322-44E0-9AEA-EC6E4208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22C-CCDD-4AAE-ABEE-935F76A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0A9-ED9A-4C0C-9B65-2F74B58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6743-635A-4871-B0A5-156932176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360" y="1371600"/>
            <a:ext cx="58669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e your friends and intim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enemies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TM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38480" y="2971800"/>
            <a:ext cx="29433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3880"/>
            <a:ext cx="7924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L&gt; Directions from New York City, NY to Paris, Fr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I&gt; Drive to Ocean (about 200 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I&gt; Swim across ocean (about 3462 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I&gt; Drive to Paris (about 100 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5320" y="609480"/>
            <a:ext cx="85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ist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01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BLE BORDER="2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 COLSPAN="4" BGCOLOR="pink"&gt;&lt;CENTER&gt;Do you like me? (circle answer)&lt;/CENTER&gt;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&gt;Ye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&gt;No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&gt;All Signs Point to Ye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 ROWSPAN="2"&gt;Perhap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&gt;Definitely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 COLSPAN="3"&gt;Unclear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7080" y="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able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129528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titular content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 BGCOLOR="darkblue" text="cyan" link="cyan" vlink="cyan" alink="cyan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4280" y="609480"/>
            <a:ext cx="158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regime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990720"/>
            <a:ext cx="853452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Troubleshoo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enguiat Bk BT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&amp;%@$ it, dude.  Let’s go bowl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99% HTML catastrophes are from typo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fix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% You really don’t know how to do someth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Googl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ings are still ugl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CSS, XHTML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 want more interactio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Javascript, Java, Perl, DHTML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57200" y="1219320"/>
          <a:ext cx="342900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42900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262600" y="53352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ep at somebody’s source cod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29200" y="1219320"/>
          <a:ext cx="356220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219320"/>
                    <a:ext cx="3562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203480" y="54514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1520" y="54864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52280"/>
            <a:ext cx="8001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More instruc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ML Goodies… http://www.htmlgoodie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3 Schools… http://www.w3school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vascript Source… http://javascript.interne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ext 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imson Editor… http://www.crimsoneditor.com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List Apart… http://alistapar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SS Zen Garden… http://www.csszengarde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60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enguiat Bk BT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The thinking human being unable to express himself stands at the same level as those who cannot think</a:t>
            </a:r>
            <a:r>
              <a:rPr b="0" i="1" lang="en-US" sz="2400" spc="-1" strike="noStrike">
                <a:solidFill>
                  <a:srgbClr val="000000"/>
                </a:solidFill>
                <a:latin typeface="Benguiat Bk BT"/>
              </a:rPr>
              <a:t>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-- Peric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381400" cy="2038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6248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6248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u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raffiti" descr=""/>
          <p:cNvPicPr/>
          <p:nvPr/>
        </p:nvPicPr>
        <p:blipFill>
          <a:blip r:embed="rId2"/>
          <a:stretch/>
        </p:blipFill>
        <p:spPr>
          <a:xfrm>
            <a:off x="6648480" y="3657600"/>
            <a:ext cx="2495520" cy="119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23880" y="2362320"/>
            <a:ext cx="2552760" cy="29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429000" y="3048120"/>
            <a:ext cx="176688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radio" descr=""/>
          <p:cNvPicPr/>
          <p:nvPr/>
        </p:nvPicPr>
        <p:blipFill>
          <a:blip r:embed="rId5"/>
          <a:stretch/>
        </p:blipFill>
        <p:spPr>
          <a:xfrm>
            <a:off x="4724280" y="3352680"/>
            <a:ext cx="1424160" cy="1881360"/>
          </a:xfrm>
          <a:prstGeom prst="rect">
            <a:avLst/>
          </a:prstGeom>
          <a:ln w="0">
            <a:noFill/>
          </a:ln>
        </p:spPr>
      </p:pic>
      <p:pic>
        <p:nvPicPr>
          <p:cNvPr id="51" name="cave" descr=""/>
          <p:cNvPicPr/>
          <p:nvPr/>
        </p:nvPicPr>
        <p:blipFill>
          <a:blip r:embed="rId6"/>
          <a:stretch/>
        </p:blipFill>
        <p:spPr>
          <a:xfrm>
            <a:off x="380880" y="4114800"/>
            <a:ext cx="2059200" cy="157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5791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5791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6640" y="1185840"/>
            <a:ext cx="73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internet is a participatory mediu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81680" cy="318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5320" y="533412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thpastefordinn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57200"/>
            <a:ext cx="78483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hat is HTM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p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ku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guage = HTML.  It is the native language of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hat is HTML n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hat seems like a pretty trivial distinction,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’s not. HTML was invented to make web publishing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mor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ccessible to normal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26320" y="609480"/>
            <a:ext cx="45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y learn HTML at all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1981080"/>
            <a:ext cx="4496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cause the machine should work for you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the extent that you hold the reig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971800" cy="428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86200" y="1600200"/>
            <a:ext cx="4495680" cy="433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umans make simple, easy to read and efficient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bots make cumbersome, confusing and often inefficient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676520"/>
            <a:ext cx="4647960" cy="4511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roubleshoo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esign Contr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080" y="193680"/>
            <a:ext cx="84740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iting your web page in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e a new text document called whatever you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ight click on the file and select “Open With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oose Notepad. Microsoft Word isn’t your frien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It’s HTML time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Write s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oose “Save as.” Save the file as “whatever.htm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 the newly created html file in a web browser.  You may need to refresh the browser to see your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we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5181480"/>
            <a:ext cx="6858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685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867280"/>
            <a:ext cx="685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5181480"/>
            <a:ext cx="6858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495680"/>
            <a:ext cx="6858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5867280"/>
            <a:ext cx="6858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5181480"/>
            <a:ext cx="6858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4495680"/>
            <a:ext cx="685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5867280"/>
            <a:ext cx="685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6857640" y="56386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48006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7353000" y="521964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6362640" y="5219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52280"/>
            <a:ext cx="8381880" cy="61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ichotomous tag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a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tag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ext you se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. &lt;strong&gt; this text is bold &lt;/stro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od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ta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ttribute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value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xt you se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&lt;/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. &lt;font color=“salmon”&gt; this tex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mon colored &lt;/fo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n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tag1&gt;&lt;tag2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ttribute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value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x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tag2&gt;&lt;/tag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. &lt;I&gt;&lt;FONT size=“2”&gt;this text is italicized and siz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&lt;/FONT&gt;&lt;/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nestico" descr=""/>
          <p:cNvPicPr/>
          <p:nvPr/>
        </p:nvPicPr>
        <p:blipFill>
          <a:blip r:embed="rId1"/>
          <a:stretch/>
        </p:blipFill>
        <p:spPr>
          <a:xfrm>
            <a:off x="7086600" y="3581280"/>
            <a:ext cx="1454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762120"/>
            <a:ext cx="838224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Other types of ta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npaired, but still attrib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MG SRC=“http://…” BORDER=“1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R WIDTH=“50%” COLOR=“lime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npaired, no attribute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aired, no attribute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1&gt; Text will be a level 1 heading.  Pretty Big &lt;/H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6&gt; Text will be a level 6 heading.  Illegibly small. &lt;/H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n Cohn</cp:lastModifiedBy>
  <dcterms:modified xsi:type="dcterms:W3CDTF">2007-06-08T09:56:04Z</dcterms:modified>
  <cp:revision>8</cp:revision>
  <dc:subject/>
  <dc:title>PowerPoint Presentation</dc:title>
</cp:coreProperties>
</file>